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539-9BD0-46AE-AC17-1EC0D5A7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04A-E7DE-40BB-BF3D-B50B2E7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5322-FC8B-4F2F-B214-88139E2D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8992-5B74-4E0E-969B-247DD06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07BE-A060-460C-8314-62203F0D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F7AE-C70C-45F8-8C35-721727D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1D889-F6A2-4483-A10D-55C38AD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BB765-B9EC-416C-803B-4237F6C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706EC-3541-4BD3-BA90-48D2F65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CF3CC-DF12-420B-955C-8EA19632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A48E8-17A2-4031-B9F1-61EC8A23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1A9EA-D9F9-4B07-9490-E30FE92E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B7D-C562-4564-A0BC-84C3B51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1F5CD-4133-4A5B-A739-F03A70CE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EE28D-E221-4064-A90C-32195AA5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3D024-94F0-4A3E-8A64-AC4C8818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60C83-6889-436E-BC31-C5FB0369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07D5-6597-4CC1-B58B-614EE0C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F0BE-0435-408C-B4F8-B7AACCE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B25B7-E1C8-43FB-90E3-88C030A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B14C-7A8C-4665-B24F-48AB42A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36D2-FFFB-47ED-B6AA-DC05CF1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2C7A-1B03-49AA-8D64-A9BDBB95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96-C5CD-46F5-BB41-F616D635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B511-B139-4002-ACCF-CCB532C8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60C4-7A05-4634-9D39-0CA614DC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92AD6-30C6-44FC-9E51-92C6EA1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68E8D-9788-44C1-B5C9-EF89EF5F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7AE83-343B-41D7-875D-B580F8B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FA868-9241-42E1-B76D-DE0BCC5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9CE67-C86A-4BE8-87BA-2E4D29B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31722-ADAE-4B85-83A3-7C6C2CC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E2E8F-91D2-4B28-A164-17B8C68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6A6C-5DA5-4E3E-A97E-7EE5C6B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9F58-D25A-4525-A4A7-9ED9968C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6EE73-92AF-4F5D-901E-932B4E38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5C438-7027-4F3A-909E-540F9001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E4ACE-9094-46A0-B2B6-BB37A097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9B5B6-C950-4E6F-BF42-7AAB743E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EF26-C494-4DE7-B539-4D3E751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54834-7DE1-4CD4-8F65-A2690C8D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E1D16-16AF-4962-98BA-83A9358C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33F22-E56F-4A64-83AA-AD367D3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3C351-5B3F-4854-892F-6AD9EDE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85EE0-918F-4797-8449-0133231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C9D-A111-4D6D-8540-A5713C7E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52F8F-D787-4DED-8994-303D24C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809FA-C0DD-42D7-8455-510E06ED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A2F6-7186-43AF-8697-81B22511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0E04A-DD57-48C5-8912-6C28CA3E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C0A7F-C883-4322-A040-426FBDEC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3B4EA-D5C5-431A-99C9-5F7A4B02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BF5F0-6ACB-4134-A18C-E9EE3CDF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58A1F-CB53-4A2C-AC12-9F39166D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90EE4-8CAB-4ED6-9E3B-9D2FEB1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87721-17AE-454D-B69C-DC91BA4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71F-8056-4BCA-A70E-375E005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38ED9-E199-4CC7-A18A-09BC423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E6DE3-0B61-4801-A80B-0667D1AB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54BAD-E7E6-41A1-99FF-263E7B6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ABDA2-28FE-4334-89AF-2ABF3BE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6F224-2D57-44C5-89AB-BABBEC3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F32A6-1735-42DF-809F-C9CA5C32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433CF-B1D7-417B-853B-78C27296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2CD8C-5CDF-4797-BE70-0C6E13F4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006B1-7A86-441A-A10C-D803853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A0F65-2FDE-4A2E-9F9C-A89CA07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C2D-3DC1-42E1-A057-4262247C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DB581-B798-4042-9AF6-0F69FD2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27864-0140-4141-B2B7-037AE3C0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4AE53-6D70-4338-B9B9-86CF3B3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20A28-5B19-48F1-818D-C49D66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8DD31-663A-431E-83E6-C6C7AD99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19918-363C-4C85-B5B2-ABAA927C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D81D0-CCE4-4CFB-AA93-3B0210E5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3CA85-2F6D-43F1-900E-25854822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6E7A3-F759-487D-A90B-F51AA87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56BA6-9E0F-4044-AEFD-CE7723D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ED7-611D-4F76-820B-6FCDF66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E7328-651C-44E4-859D-A73BDD7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AEE46-1064-4648-8AB2-BE283AB5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2FCFD-9E0D-4118-BF81-E973557A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33261-2925-42BF-8FDC-D4B86971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4E41B-4664-452C-94BE-BD65137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13175-B37C-44A0-845D-3395F11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1A37C-9685-4FB5-BB1C-902C31E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31403-F619-4B97-A2A8-574647B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19C5B-DB3E-4B07-BDE6-7FA4FC7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5B38C-6B19-437E-B8EC-0BF562E5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59F1-94BD-471C-9770-A0DA1D5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71617-8CFE-434A-A76F-B7F465C6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202B3-5E45-4B17-97C6-A89F6851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9AB93-7AF4-44A9-8BE0-AE9AE625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A1F3E-ADDA-4152-8C71-EFB5FEA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0E2BC-7162-48A9-B190-31AEA1CA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69331-735D-4BCC-8E88-38A664E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C6D2D-604F-40F0-A7BD-9F3A554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562E1-A314-4184-8581-9769E8A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7DE05-8E34-42AF-864E-CE10D12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80913-489F-427F-A5BD-A0B07A6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AD9-FF79-443B-9CC0-A2A46A6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9B376-55AC-4EA2-B02B-C9E2E337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9F3FA-1039-4661-927B-C491167D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B521A-3CC0-4383-A385-763CA738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A0D61-5404-4368-B20F-3EED4420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A79FC-7584-4157-98C9-DB8A31C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23841-EE89-456B-899F-785E9024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33C1D-FD79-4131-B133-9764CF4B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6853D-A08D-4296-B161-9D1E7AAB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39D4F-C95A-4F7D-96D2-A78B4662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CC4CA-4FD8-4D60-909B-8CD51E4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8F0-D514-422F-8683-1537E5B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317-EEC8-4361-A0D3-C087E98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16EDF-68D7-43EC-B9CE-011C938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6A853-41A3-4AD7-8F4A-D3C3B49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62FC0-228A-4A04-B115-19AE1C78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BE943-7504-4B3D-B403-CD7E692E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92F92-C0EA-4069-AA82-A8C2F415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FEC55-2CCD-4589-BFA9-29A0B836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B644F-9859-4368-AA70-04B4AEE4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3800C-AC84-4962-A144-C8C062C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41BC8-9178-4C62-A427-E272488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6B915-AD4B-4639-8F95-F98834FC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937-1BC5-4CAC-9452-705DD01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E04A6-DFCE-4179-BD12-CBEBF63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4032D-C340-4326-BA81-3BB9967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301FF-BA9A-42A7-AF27-7DE7C89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E8272-8225-428A-B2FC-767168C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AA77E-0828-4237-965D-94B2EF7F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13A27-FFDA-4090-A48F-AB885657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993A0-CC81-4D88-B2BA-A912B7E7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FCDE5-F968-45B7-9D0B-6CA34F32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0A925-B7E0-4AE8-BF8A-653C10A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C6AFE-CEB4-4815-A897-BE43D167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4FD-F653-4A3E-AAD3-6D4C0DFD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43E0B-A535-4509-B1BA-9226671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8DFF0-F544-496D-9BDB-7E5B851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DEE43-8314-4410-B366-96F8B87F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3956FD-B279-4911-8805-B473DD1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753BE-FCD0-4AFD-A6FA-1E31A46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07CEA-DAC6-49A7-9A15-8796F4D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C4AAE-4D2B-4BD6-AE4E-87092F6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EA516-2EB8-45B4-AAC4-5CD3AEB6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F9543-96EE-465A-9258-3371F57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349A5-2E95-4449-9B6D-F04B5E52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07C-941A-4BC3-AC17-3BF9E3A5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92AAE-FAC6-4BC2-BF74-434A3C63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70BA9-525B-44CB-BE33-03228D4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5D0E9-27D7-4A60-AD10-BAC3505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884CC-2003-4750-8C46-577F8F2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25AF9-B640-43D2-900D-3D70152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E9ED1-E0CB-4ADE-A94C-061DA4D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D54BE-7B82-4460-84E5-C3F1C6F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9BC32-3422-43A9-AFA7-2631922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2CED0-7DFC-4281-92DD-EA4A11A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63892-F6BC-4F5D-9BF4-CAEACA18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F27-0BA5-4480-8462-3A9672B9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071FC-B1AB-424F-AC84-15129A6E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C987C-7932-47A4-B722-450BC921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D5954-37F1-47C7-86B4-D0F5E91E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A5A44-3D9B-4A57-818E-244C6F5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A960E-F6A4-496F-958C-EF3E0BA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61822-5B64-4D1F-AE3D-4DCA444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8B9F8-E90F-4EE7-86AE-49D7DEC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6A9FF-D025-4BCC-86E6-B49FAF2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49940-481E-415D-B5C3-161E31A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A8412A-880D-4ACB-8820-E5249F0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C6EB-7E5D-410D-9AE0-E183458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FD278-9BE4-4BC6-B020-C7CAB02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4F350-57C0-455A-8201-BF4D5A99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9DEC5-98E0-4650-82BE-204860F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CBB834-8D4E-4242-90A2-EE1E07F6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EECA64-715C-4815-BD25-9F076A6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13082B-40E5-4348-BB62-F68C8C8B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926C8-8FC5-457B-A797-CB5A6680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9F57D-5C2E-48DE-A6B9-D13531E3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347C1-D153-4E3C-8233-5943D3D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0AF38-37AC-427A-A6C4-718CE59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32A6-8788-4981-9440-3815B885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5F637A-BCEA-4D03-B7B2-87E6E22C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A7CEE-A53C-468E-96EF-A07E65BE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CC7923-C555-48FD-8540-EAAA98C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D096E-E37F-4467-A84C-F4F0B91C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F2A5F-A914-44B2-868D-E11E346E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8E316F-08B5-48F9-A5D4-CC042E1D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AAF87-FCE3-4222-A9D7-B4A3E41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0A790-9FFF-4881-B61B-BF1CFA38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028AF-E483-4193-9EF8-CF8A75C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D0B9D-A4D2-418F-99DD-898D5A5B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C705-6D83-4181-974D-61315BA3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8C568-750C-48A0-AA0F-D6EA511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C6D21E-3D51-4617-8198-1968DEA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A2D15E-64E0-41B6-A2A4-85950B8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761A7-B0D4-4489-946F-2AEC5DE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C26181-4AB9-4068-BC5D-22B582CA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2F6BF-53A5-44A7-8F22-DB17C275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62C17-6E98-4DA1-8C87-381EB0E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553FD-D61C-4872-A2ED-44D2E871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F7A2E-8384-4637-8C62-4C886FC0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9A3F0-81DA-44C9-9F3B-D6F920B2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8CAE-E2A9-41F0-9230-358F0092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F7F7E-118F-470A-82C1-80A5669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286AB2-FD9F-4A7D-AF49-8C3768F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387DFD-8F6E-4A5F-94B9-C7110EA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7CEED5-E680-414B-B581-632A0CE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9906A-9DBA-421A-A555-7F7DC7C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554823-9410-4BC8-93D5-D6FEBB5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76A56E-351B-4C6E-8EAE-2227EF19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855C2-1904-4EEC-991C-0D1AEE15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CFAD2F-9066-4598-8042-CEB26469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FBADFB-A01F-477F-B210-4CE3CC46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306F-4973-47B3-82AA-22E23A54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AD1864-5EFC-4EBA-84C1-52961EE6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DB91D0-85EE-4157-B788-CC0923D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FFF2F6-B6FD-4250-B81E-4C0D04FF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D099F6-7167-44B7-82A4-47563A67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0430A5-6496-453C-A9E4-CA333C66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065265-DA97-4EB8-8794-69F0022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89E70-87C6-4D09-AA7B-12B3B1B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D2B62-C6E5-4F12-B652-A858A64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0CA3C5-76A1-439F-8AB8-4FE5F79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2F5B9F-9804-4AB4-B1C3-F3CE3EE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29F-6186-4819-B377-DF2034F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3B5F-83AC-4908-BC91-C031DFB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F04807-3D01-4793-8C59-183B65C0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8E5B52-86F3-4C13-A83D-184D4345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15B146-01D7-4067-9640-9BE7181D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F7E5BA-A5A5-4D5C-BB9B-8541950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5EABFD-0C96-4853-9D42-EDC6ABCA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982412-26AA-48B0-8C11-BA46159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CCD70-0BAB-4562-B298-5A325B8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9C99F8-43B6-4592-8C7A-20278E07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F02DF-7908-4F9A-90DA-0E2C464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1031C-F15C-4AA1-9F31-083E996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AEF2-EB76-44D8-BE37-F82E1E4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33F100-C174-48A3-A7E0-A7C2D29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7103D8-B914-465B-AB42-3E313768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08594-4066-48FA-9E01-94F0602A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88A3CB-24E9-4C9D-B32D-CEAF59ED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A2B0F3-9B6A-4EE3-8D36-17F1113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6B6C5F-EFFA-4380-A802-3917FD47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7AB876-1C34-490B-A901-10B8253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DC8BED-5F16-4E18-9EB3-2C17025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88733B-B694-49B1-AAD3-0CDBA27A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269FCF-E615-49FC-B31D-597F9A0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855D-42AE-43D8-85D2-280447D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D99A3B-9C63-40DA-B21B-FD76F640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4D432C-3BE2-4F3C-B67F-008F270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3198A5-B230-4093-8F4E-212D6E3C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9D3DA3-7A1D-47B1-B2C9-EEC4A18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8322D7-0BB5-4AC9-A8A5-D4ADFA83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957D4D-0FDF-4330-B18F-CC02886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DBF32C-72D1-418C-A10C-1B753457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CE18F4-5BF2-4A56-BB7F-73788C59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416057-F363-49AC-B22A-91651F0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5403C8-E391-418A-88C9-51AECE3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544F-F59C-4336-9785-FA8A528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A95AE-1307-4996-82FB-FABA472E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03CDCF-EE08-4909-AE1C-9591C45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5D4CA3-F915-45BD-AE82-7EB341F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2DC05-95BD-40EA-8C59-1E643B49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EB9C63-0106-4B4E-9C04-1256A77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A5BA9E-07D9-4815-9F73-E56DEDEB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03ACC7-E88E-41C2-A7CC-1864B603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7F5F6D-0CC9-48B4-8371-30939F7C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DA13C2-89EC-4670-9BD3-7C65D2D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08E5AE-7720-4731-B4D0-A92DA915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BD76-FE12-485F-8783-5B061EF7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8ABD1-0A5C-4F1C-858B-5465F79E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0F989D-D2B2-4462-8FEC-B410CA76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2AF997-1D09-439D-B50E-ACB898B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ED0A27-B395-4493-989E-95F39AC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F165A4-3BAF-41EB-A697-008BBD2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914C55-9BE2-49E3-A017-581E39E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5E5C9-050B-43BB-AD1B-20684F55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023DE-291E-48A5-B392-B78A30B8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C689F4-0FCE-4230-84F8-498F39FB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EBDE0F-7177-4DD3-8E1F-791AD882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0AA6-B1AF-40E7-BA52-837B28A3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8BF869-546B-4045-A369-446CAE2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D468B2-FFE9-4F90-B536-B315D5A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915AA-0285-4310-BDD4-A32918A2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10A61B-3064-40DE-9D2B-23F2301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02F567-9699-430A-8A73-8768920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20EECB-BFCF-44F1-A00B-71C51EA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008903-A1A8-4032-8AC7-0F05F3F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23136-6F23-41FE-A766-FA925E9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34E23E-4DB8-414A-B76B-5735E8D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59F028-35E2-4C44-9E11-370DDE75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2783-EF5D-4FE8-B6F9-77729C3A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37EF6F-4300-4821-BB61-EE9EE675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42EAEA-1BCA-4997-A81B-1E2928C5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FE0EF2-D318-445C-8D56-5CBA2924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DEAFB-30EF-4FB0-AAC0-B6C5E88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28A188-06FA-4C41-B358-7BEBCF64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B11368-4041-49FE-B229-39A1DB91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0D01B0-39EF-42E8-A9A8-42EA2FA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05389C-9072-4C1E-AA13-892953DB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AD21EB-717D-4A4B-A10A-F2F244D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2876BE-CFAB-4F41-9302-223B09B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1E8E-DBFC-4E5B-A994-B82E715C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7C1CA1-248B-4103-BE33-D109B42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408CAB-6E86-4BA7-9B56-024591A4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5B7BB2-7B30-4EB1-BA83-7BAD467B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EA70-F2A5-4349-BB61-9D062068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B594-3EE0-4004-8855-0A9F0E0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292-9E2F-47D7-8432-333D850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FC98-7E0F-49FB-8104-F6A5883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72D6-0953-49CF-93CA-B49F174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038E-3176-4B91-A765-A820D9F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36F6-86B9-4D4C-A39E-031A028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5354-5AC2-47CD-8455-0FE2795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8F12-04D3-4A87-999E-F238D6E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FECA-36A8-406B-871A-4F75868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9C2E-0EC2-4694-A624-4AA8F8E5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B880-CA6B-4AA6-9B46-EFB2CA39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3599-C225-4DB7-BF1F-2F52D83A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B71-E2D0-4D78-BAD1-B99D4D39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445E-E656-4872-9B58-9BE506A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B5F5-B37B-4AA1-909D-5E9BC5E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3C3F-B9F5-457C-A498-A19A109F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92B4-1254-46A1-AC56-A4204AB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1B2B-EA70-48C3-87C6-B0E72992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96D2-04A1-42EE-A123-501C096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DEEE-D207-413D-8538-1FF7EEE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CA52-7242-47FE-BABA-70F1974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8BDF-FFDB-4DEB-BD28-3C24FF4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45B6-F1A9-448D-85C1-F4F4C732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A2D-950E-49BB-A840-DA3E5BB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0A4E-A4B0-4BB1-9B87-F45FF64C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4036-E35C-497F-AFCA-9B4A975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74A9-B20A-47CD-B27A-B5F0A02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26D6-2392-48A3-BAAC-CE69A6BC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DA60C-D70F-41E1-ABCB-25250D2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4F52-8AAA-45D3-8A76-986D9EF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6605-8F46-4864-A7B4-B398A13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6A70-4124-4E89-84AD-24C5173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8730-2589-4C5B-B364-7C20D66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386A-78A7-4166-9C1D-4BDFC81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14F-45C0-4238-9B8B-EDF269B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7137-6139-4460-9A82-5F076FD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87E3-0B2F-45D4-A38B-66901137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A4E4-95BD-483D-8B08-E71448C6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FC3E-6AFA-493E-AF57-86400EE9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1A3FD-6475-4AC7-A839-E3551A9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2BB7-04FF-4BF1-82E6-2CD505F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C967-EE1A-484F-BFCF-5C530A7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B0BB5-AB5C-4DAC-ACCF-38BCB2D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30E0-51B6-4B1B-87ED-E7D8DF4F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610A-FDE5-4C4D-84B0-654E5FE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361-EC0D-47CC-B43C-D9C837B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EBF35-3C29-499E-A739-FA7B2C7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85D2-21F1-43E0-BC90-11FFAD4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2F13-55FF-42CD-B80C-A8FD7D3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E503-7575-45E8-B9B1-12CB78CA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C123-2F39-49B8-9536-215AF8E3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2AFA-ABDE-4FB7-A829-4187BE8C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CC8F-F6AD-446E-8A88-9399766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25968-60EB-4CE9-B127-0D96D941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8CA6-2C56-4C88-812B-CD81211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AA95-C6C4-495A-9348-21D30C79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6B9-37BC-444F-AB5A-8240CEA5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2B848-1A32-4FC0-8663-95724C3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C7B7-B6BF-42D8-9E58-9FBF909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5A14-999F-434A-859C-520AD1B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8D21-42AE-42BB-A955-70F7A8E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D03E-4B79-4A5B-B5A5-94C7BD34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0A28D-AF48-454A-AD81-AF1E515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F8273-CEE2-40D6-87A9-F7B03F2E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AB377-45AE-4B70-8C4F-F33A0F4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00CF4-F32D-4ABE-9CA6-4368B2CA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FFD76-661E-47B6-929F-D5DEE6D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97FA-FAA5-45B1-A3E5-99AFF6BA4C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0AE-E011-46BC-A27F-FB389034E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93A-CEFB-472F-9F14-309D653AAF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156E-D998-40EA-AA67-93ABD4621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D482-7B47-4A72-949E-63B78ECD2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259-D9DB-400C-93DD-FEE7FCD39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B923-94AF-4BE3-95DF-77F2BCCFC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04A-25E6-4F37-B1A7-84BA540FC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487-FCB1-45E3-96A6-76B0A2D52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D31-92F2-4765-99B1-F86840E1B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3898-05F2-439C-A670-5452F44D9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82F2-3722-4262-989E-9E4D5E61C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E364-8FB9-4BD2-B902-F14D5671A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133-AECA-465C-B34E-13232A579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F63-EFDC-4C72-98A3-899EB2E47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0BC-B0A2-450B-8F65-A902C686A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F54-D280-4E65-A451-2792C3FABF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48DE-F276-474D-8815-73B8E1A73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163-E825-4628-8E9A-AB8DDC6BB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6EDD-4A97-40A5-8E96-FE292A276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5AA2-918B-4A4D-9B2A-BBAB5EEAE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663-82AF-4AC4-A2B1-E17F7D6071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629-C323-4FE1-8355-2360DD33B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7FE7-9420-45DE-BC43-64681D486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1C5-1D42-4A28-8CCE-3235920B2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35A-4E6A-4ECD-AE02-016B976DD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AA9-C382-47CE-8596-A056BCC0E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01E1-CEF6-416E-9AC1-F737FDCA5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06D3-BB1A-4B8C-A2FE-BF564154B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226-88EA-4CA4-A674-27AE9CF96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C5B0-702E-4A94-A089-C9E09FE45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65BD-908D-4D42-9F31-C38CBC6F4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B6B-E507-4206-91A6-847380E4D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BD5-5073-40BC-90CD-30597F6A6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FC8-A19D-4390-9A55-718B8D520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617-C56F-422E-BC0A-4F2BF6307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1CB-7B13-4F9D-8BFA-7683FCFA3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BD04-AE04-4839-94D4-643346F6D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F49-B3BB-4ACC-822B-EC51F5207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AADC-BF08-4723-80F5-BEC96153F2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A41-CE6B-4EA7-A33E-03B1BE6AF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15D-1253-4101-B0A5-EC48CF6ED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3FD6-CE93-4044-AD2F-121D0854F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D46E-0BA1-4BC6-8615-6481705A0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85E-E592-4277-A0CB-BD52D9C9B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49CB-8F82-4846-A1A5-7718EC34A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3D7-1EEE-49BE-9126-B517C80565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E8A-FA94-4D60-9681-E4C0D6A41A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0921-0280-4675-B615-E541D2CB02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347-207B-419D-8AE0-E00BB7EDC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985680" y="3110040"/>
            <a:ext cx="71726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9873" descr=""/>
          <p:cNvPicPr/>
          <p:nvPr/>
        </p:nvPicPr>
        <p:blipFill>
          <a:blip r:embed="rId1"/>
          <a:stretch/>
        </p:blipFill>
        <p:spPr>
          <a:xfrm>
            <a:off x="571680" y="1062000"/>
            <a:ext cx="8001000" cy="47340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79874"/>
          <p:cNvSpPr/>
          <p:nvPr/>
        </p:nvSpPr>
        <p:spPr>
          <a:xfrm>
            <a:off x="7728120" y="4141800"/>
            <a:ext cx="5158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79875"/>
          <p:cNvSpPr/>
          <p:nvPr/>
        </p:nvSpPr>
        <p:spPr>
          <a:xfrm>
            <a:off x="4775040" y="474984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78849" descr=""/>
          <p:cNvPicPr/>
          <p:nvPr/>
        </p:nvPicPr>
        <p:blipFill>
          <a:blip r:embed="rId1"/>
          <a:stretch/>
        </p:blipFill>
        <p:spPr>
          <a:xfrm>
            <a:off x="538200" y="1690560"/>
            <a:ext cx="8067600" cy="3476880"/>
          </a:xfrm>
          <a:prstGeom prst="rect">
            <a:avLst/>
          </a:prstGeom>
          <a:ln w="0">
            <a:noFill/>
          </a:ln>
        </p:spPr>
      </p:pic>
      <p:sp>
        <p:nvSpPr>
          <p:cNvPr id="1457" name="矩形 78850"/>
          <p:cNvSpPr/>
          <p:nvPr/>
        </p:nvSpPr>
        <p:spPr>
          <a:xfrm>
            <a:off x="6707160" y="4118040"/>
            <a:ext cx="1663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7782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029440" cy="99072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77826" descr=""/>
          <p:cNvPicPr/>
          <p:nvPr/>
        </p:nvPicPr>
        <p:blipFill>
          <a:blip r:embed="rId2"/>
          <a:stretch/>
        </p:blipFill>
        <p:spPr>
          <a:xfrm>
            <a:off x="949320" y="1846440"/>
            <a:ext cx="7410600" cy="96192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77827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60008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9089" descr=""/>
          <p:cNvPicPr/>
          <p:nvPr/>
        </p:nvPicPr>
        <p:blipFill>
          <a:blip r:embed="rId1"/>
          <a:stretch/>
        </p:blipFill>
        <p:spPr>
          <a:xfrm>
            <a:off x="754200" y="816120"/>
            <a:ext cx="7476840" cy="56480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9090"/>
          <p:cNvSpPr/>
          <p:nvPr/>
        </p:nvSpPr>
        <p:spPr>
          <a:xfrm>
            <a:off x="6399360" y="1932120"/>
            <a:ext cx="9190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9091"/>
          <p:cNvSpPr/>
          <p:nvPr/>
        </p:nvSpPr>
        <p:spPr>
          <a:xfrm>
            <a:off x="1627200" y="542592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9092"/>
          <p:cNvSpPr/>
          <p:nvPr/>
        </p:nvSpPr>
        <p:spPr>
          <a:xfrm>
            <a:off x="6948360" y="5418000"/>
            <a:ext cx="11527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89093"/>
          <p:cNvSpPr/>
          <p:nvPr/>
        </p:nvSpPr>
        <p:spPr>
          <a:xfrm>
            <a:off x="1258920" y="5983200"/>
            <a:ext cx="3025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0113" descr=""/>
          <p:cNvPicPr/>
          <p:nvPr/>
        </p:nvPicPr>
        <p:blipFill>
          <a:blip r:embed="rId1"/>
          <a:stretch/>
        </p:blipFill>
        <p:spPr>
          <a:xfrm>
            <a:off x="731880" y="784080"/>
            <a:ext cx="7448400" cy="5600880"/>
          </a:xfrm>
          <a:prstGeom prst="rect">
            <a:avLst/>
          </a:prstGeom>
          <a:ln w="0">
            <a:noFill/>
          </a:ln>
        </p:spPr>
      </p:pic>
      <p:sp>
        <p:nvSpPr>
          <p:cNvPr id="1467" name="矩形 90114"/>
          <p:cNvSpPr/>
          <p:nvPr/>
        </p:nvSpPr>
        <p:spPr>
          <a:xfrm>
            <a:off x="2930400" y="3084480"/>
            <a:ext cx="9194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0115"/>
          <p:cNvSpPr/>
          <p:nvPr/>
        </p:nvSpPr>
        <p:spPr>
          <a:xfrm>
            <a:off x="1957320" y="3672000"/>
            <a:ext cx="9064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90116"/>
          <p:cNvSpPr/>
          <p:nvPr/>
        </p:nvSpPr>
        <p:spPr>
          <a:xfrm>
            <a:off x="4503600" y="4835520"/>
            <a:ext cx="1025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90117"/>
          <p:cNvSpPr/>
          <p:nvPr/>
        </p:nvSpPr>
        <p:spPr>
          <a:xfrm>
            <a:off x="6512040" y="5407200"/>
            <a:ext cx="4316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1137" descr=""/>
          <p:cNvPicPr/>
          <p:nvPr/>
        </p:nvPicPr>
        <p:blipFill>
          <a:blip r:embed="rId1"/>
          <a:stretch/>
        </p:blipFill>
        <p:spPr>
          <a:xfrm>
            <a:off x="585720" y="1200240"/>
            <a:ext cx="79725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2161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505480" cy="322920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92162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61340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3185" descr=""/>
          <p:cNvPicPr/>
          <p:nvPr/>
        </p:nvPicPr>
        <p:blipFill>
          <a:blip r:embed="rId1"/>
          <a:stretch/>
        </p:blipFill>
        <p:spPr>
          <a:xfrm>
            <a:off x="824040" y="1281240"/>
            <a:ext cx="7495920" cy="42955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93186"/>
          <p:cNvSpPr/>
          <p:nvPr/>
        </p:nvSpPr>
        <p:spPr>
          <a:xfrm>
            <a:off x="2700360" y="3284640"/>
            <a:ext cx="7192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3187"/>
          <p:cNvSpPr/>
          <p:nvPr/>
        </p:nvSpPr>
        <p:spPr>
          <a:xfrm>
            <a:off x="3995640" y="3284640"/>
            <a:ext cx="5050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3188"/>
          <p:cNvSpPr/>
          <p:nvPr/>
        </p:nvSpPr>
        <p:spPr>
          <a:xfrm>
            <a:off x="5227560" y="3233880"/>
            <a:ext cx="6397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3189"/>
          <p:cNvSpPr/>
          <p:nvPr/>
        </p:nvSpPr>
        <p:spPr>
          <a:xfrm>
            <a:off x="6804000" y="3284640"/>
            <a:ext cx="8240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3190"/>
          <p:cNvSpPr/>
          <p:nvPr/>
        </p:nvSpPr>
        <p:spPr>
          <a:xfrm>
            <a:off x="7061040" y="4552920"/>
            <a:ext cx="906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420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86680" cy="5791320"/>
          </a:xfrm>
          <a:prstGeom prst="rect">
            <a:avLst/>
          </a:prstGeom>
          <a:ln w="0">
            <a:noFill/>
          </a:ln>
        </p:spPr>
      </p:pic>
      <p:sp>
        <p:nvSpPr>
          <p:cNvPr id="1481" name="矩形 94210"/>
          <p:cNvSpPr/>
          <p:nvPr/>
        </p:nvSpPr>
        <p:spPr>
          <a:xfrm>
            <a:off x="984240" y="4829040"/>
            <a:ext cx="30830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4211"/>
          <p:cNvSpPr/>
          <p:nvPr/>
        </p:nvSpPr>
        <p:spPr>
          <a:xfrm>
            <a:off x="900000" y="5440320"/>
            <a:ext cx="46087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4212"/>
          <p:cNvSpPr/>
          <p:nvPr/>
        </p:nvSpPr>
        <p:spPr>
          <a:xfrm>
            <a:off x="782640" y="6027840"/>
            <a:ext cx="46083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5233" descr=""/>
          <p:cNvPicPr/>
          <p:nvPr/>
        </p:nvPicPr>
        <p:blipFill>
          <a:blip r:embed="rId1"/>
          <a:stretch/>
        </p:blipFill>
        <p:spPr>
          <a:xfrm>
            <a:off x="852480" y="1166760"/>
            <a:ext cx="7439040" cy="45244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5234"/>
          <p:cNvSpPr/>
          <p:nvPr/>
        </p:nvSpPr>
        <p:spPr>
          <a:xfrm>
            <a:off x="826920" y="1147680"/>
            <a:ext cx="61214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5235"/>
          <p:cNvSpPr/>
          <p:nvPr/>
        </p:nvSpPr>
        <p:spPr>
          <a:xfrm>
            <a:off x="826920" y="1709640"/>
            <a:ext cx="18734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5236"/>
          <p:cNvSpPr/>
          <p:nvPr/>
        </p:nvSpPr>
        <p:spPr>
          <a:xfrm>
            <a:off x="826920" y="2349360"/>
            <a:ext cx="6421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5237"/>
          <p:cNvSpPr/>
          <p:nvPr/>
        </p:nvSpPr>
        <p:spPr>
          <a:xfrm>
            <a:off x="755640" y="2924280"/>
            <a:ext cx="18734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5238"/>
          <p:cNvSpPr/>
          <p:nvPr/>
        </p:nvSpPr>
        <p:spPr>
          <a:xfrm>
            <a:off x="755640" y="3500280"/>
            <a:ext cx="67183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5239"/>
          <p:cNvSpPr/>
          <p:nvPr/>
        </p:nvSpPr>
        <p:spPr>
          <a:xfrm>
            <a:off x="755640" y="4076640"/>
            <a:ext cx="1990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95240"/>
          <p:cNvSpPr/>
          <p:nvPr/>
        </p:nvSpPr>
        <p:spPr>
          <a:xfrm>
            <a:off x="826920" y="4680000"/>
            <a:ext cx="74901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5241"/>
          <p:cNvSpPr/>
          <p:nvPr/>
        </p:nvSpPr>
        <p:spPr>
          <a:xfrm>
            <a:off x="826920" y="5267160"/>
            <a:ext cx="1990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52600" y="1109520"/>
            <a:ext cx="8038800" cy="46389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350028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96257" descr=""/>
          <p:cNvPicPr/>
          <p:nvPr/>
        </p:nvPicPr>
        <p:blipFill>
          <a:blip r:embed="rId1"/>
          <a:stretch/>
        </p:blipFill>
        <p:spPr>
          <a:xfrm>
            <a:off x="828720" y="2019240"/>
            <a:ext cx="7486560" cy="2819520"/>
          </a:xfrm>
          <a:prstGeom prst="rect">
            <a:avLst/>
          </a:prstGeom>
          <a:ln w="0">
            <a:noFill/>
          </a:ln>
        </p:spPr>
      </p:pic>
      <p:sp>
        <p:nvSpPr>
          <p:cNvPr id="1494" name="矩形 96258"/>
          <p:cNvSpPr/>
          <p:nvPr/>
        </p:nvSpPr>
        <p:spPr>
          <a:xfrm>
            <a:off x="876240" y="2014560"/>
            <a:ext cx="41274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96259"/>
          <p:cNvSpPr/>
          <p:nvPr/>
        </p:nvSpPr>
        <p:spPr>
          <a:xfrm>
            <a:off x="900000" y="2614680"/>
            <a:ext cx="74757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96260"/>
          <p:cNvSpPr/>
          <p:nvPr/>
        </p:nvSpPr>
        <p:spPr>
          <a:xfrm>
            <a:off x="755640" y="3201840"/>
            <a:ext cx="5040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6261"/>
          <p:cNvSpPr/>
          <p:nvPr/>
        </p:nvSpPr>
        <p:spPr>
          <a:xfrm>
            <a:off x="755640" y="3789360"/>
            <a:ext cx="33894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96262"/>
          <p:cNvSpPr/>
          <p:nvPr/>
        </p:nvSpPr>
        <p:spPr>
          <a:xfrm>
            <a:off x="611280" y="4365720"/>
            <a:ext cx="64767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471600" y="1090440"/>
            <a:ext cx="8200800" cy="46771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812000" y="407664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15120" cy="57596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7740720" y="256536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557280" y="990720"/>
            <a:ext cx="8029440" cy="487656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7812000" y="278136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871560" y="1832040"/>
            <a:ext cx="6686640" cy="96192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83970" descr=""/>
          <p:cNvPicPr/>
          <p:nvPr/>
        </p:nvPicPr>
        <p:blipFill>
          <a:blip r:embed="rId2"/>
          <a:stretch/>
        </p:blipFill>
        <p:spPr>
          <a:xfrm>
            <a:off x="843120" y="3041640"/>
            <a:ext cx="76579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547560" y="1971720"/>
            <a:ext cx="8048880" cy="29145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2946"/>
          <p:cNvSpPr/>
          <p:nvPr/>
        </p:nvSpPr>
        <p:spPr>
          <a:xfrm>
            <a:off x="7812000" y="378936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1921" descr=""/>
          <p:cNvPicPr/>
          <p:nvPr/>
        </p:nvPicPr>
        <p:blipFill>
          <a:blip r:embed="rId1"/>
          <a:stretch/>
        </p:blipFill>
        <p:spPr>
          <a:xfrm>
            <a:off x="552600" y="1685880"/>
            <a:ext cx="8038800" cy="3486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1922"/>
          <p:cNvSpPr/>
          <p:nvPr/>
        </p:nvSpPr>
        <p:spPr>
          <a:xfrm>
            <a:off x="6012000" y="2276640"/>
            <a:ext cx="10141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1923"/>
          <p:cNvSpPr/>
          <p:nvPr/>
        </p:nvSpPr>
        <p:spPr>
          <a:xfrm>
            <a:off x="1042920" y="2852640"/>
            <a:ext cx="6811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1924"/>
          <p:cNvSpPr/>
          <p:nvPr/>
        </p:nvSpPr>
        <p:spPr>
          <a:xfrm>
            <a:off x="5435640" y="3484440"/>
            <a:ext cx="6811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1925"/>
          <p:cNvSpPr/>
          <p:nvPr/>
        </p:nvSpPr>
        <p:spPr>
          <a:xfrm>
            <a:off x="4910040" y="4116240"/>
            <a:ext cx="9432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80897" descr=""/>
          <p:cNvPicPr/>
          <p:nvPr/>
        </p:nvPicPr>
        <p:blipFill>
          <a:blip r:embed="rId1"/>
          <a:stretch/>
        </p:blipFill>
        <p:spPr>
          <a:xfrm>
            <a:off x="552600" y="1709640"/>
            <a:ext cx="8038800" cy="34387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80898"/>
          <p:cNvSpPr/>
          <p:nvPr/>
        </p:nvSpPr>
        <p:spPr>
          <a:xfrm>
            <a:off x="2836800" y="416556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0899"/>
          <p:cNvSpPr/>
          <p:nvPr/>
        </p:nvSpPr>
        <p:spPr>
          <a:xfrm>
            <a:off x="6670800" y="414324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00:04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